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1ECF-87A4-41AB-AE78-CF58C49FC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5EB2-9B92-462E-A76A-E9783C02C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AC5D-E97F-4264-9023-24C037778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DBE3-A670-4819-A574-EFD88FCD9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25BC-EE4C-4925-B1C2-813EDFCF7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065-05E0-40C1-84A1-BF6CC435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60A-363F-412B-94C9-1FAB6545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947-37CC-44AE-B4A9-DC3ECF47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3C6-FABF-4D21-8696-2F9F5BAA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470-6E26-48F5-89BB-16099202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81C-95AC-4F36-AB9E-DCD65C64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E54-2FE5-43E5-AB55-50F12576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D21-61D7-430A-9A1D-8710F17E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4C1-3FB0-455A-9FCF-CAE2B96B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497-81E0-481B-A95B-94D1B74B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F0C-C9A5-4DD7-AF57-B30BBE1F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48D-837C-4AD4-A61C-0AB0E102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BB74-5A47-417D-8566-1626CCAF4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1bb3"/>
                </a:solidFill>
                <a:latin typeface="Times New Roman"/>
              </a:rPr>
              <a:t>DIFFERENTIATED INSTRUCTION</a:t>
            </a:r>
            <a:r>
              <a:rPr b="1" lang="en-US" sz="4400" spc="-1" strike="noStrike">
                <a:solidFill>
                  <a:srgbClr val="fffcc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le Y. Thieman, Ed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114880" y="605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80880" y="685800"/>
            <a:ext cx="8153640" cy="762120"/>
          </a:xfrm>
          <a:prstGeom prst="rect">
            <a:avLst/>
          </a:prstGeom>
          <a:solidFill>
            <a:srgbClr val="fffcc7"/>
          </a:solidFill>
          <a:ln w="9360">
            <a:solidFill>
              <a:srgbClr val="fff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bb3"/>
                </a:solidFill>
                <a:latin typeface="Times New Roman"/>
              </a:rPr>
              <a:t>Differentiated Instruction is the teacher’s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bb3"/>
                </a:solidFill>
                <a:latin typeface="Times New Roman"/>
              </a:rPr>
              <a:t>to learners’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"/>
          <p:cNvSpPr/>
          <p:nvPr/>
        </p:nvSpPr>
        <p:spPr>
          <a:xfrm>
            <a:off x="4572000" y="1600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2895480"/>
            <a:ext cx="7543800" cy="60984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bb3"/>
                </a:solidFill>
                <a:latin typeface="Times New Roman"/>
              </a:rPr>
              <a:t>guided by principles of differentiation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 flipH="1">
            <a:off x="2438280" y="3733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57200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5410080" y="36576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838080" y="4800600"/>
            <a:ext cx="1905120" cy="76212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f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6019920" y="4572000"/>
            <a:ext cx="2590560" cy="91440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352680" y="4952880"/>
            <a:ext cx="2286000" cy="83844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bb3"/>
                </a:solidFill>
                <a:latin typeface="Times New Roman"/>
              </a:rPr>
              <a:t>WHAT CAN BE DIFFERENTI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85800" y="137160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505320" y="1371600"/>
            <a:ext cx="2209680" cy="91440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095880" y="1371600"/>
            <a:ext cx="2362320" cy="91440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514600" y="3048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b3"/>
                </a:solidFill>
                <a:latin typeface="Times New Roman"/>
              </a:rPr>
              <a:t>According to student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838080" y="441972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3505320" y="441972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6095880" y="434340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MODIFY ACCESS TO INSTRUCTIONAL CONTENT : same skills &amp;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manipu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s, e.g. novels at multiple reading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pe recordings or videos of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ed tex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iculum compacting  (T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psis of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/adult men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f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Modify Process or activity by which learner makes sense of concepts or skills  based on  readiness, interest, learning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red activities or projects at different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urnals with varied prom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gs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-pair-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M1=  +, -, interesting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Differentiate Product by which student demonstrates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options for student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d working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ing degrees of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ty of assess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te tim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ormative &amp; summative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&amp; self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rubrics with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24280" y="609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Checklist for Group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1447920" y="228600"/>
          <a:ext cx="266688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"/>
                    <a:ext cx="266688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understand task &amp; expectation for each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is interesting &amp; matches instruction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requires genuine collaboration and important contribution from each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lines are brisk.   Students know what to do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y out for students who are not succeeding with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for teacher/peer coaching &amp; in-process quality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Linking Quality Teaching &amp; Differentiation.</a:t>
            </a:r>
            <a:r>
              <a:rPr b="1" lang="en-US" sz="3200" spc="-1" strike="noStrike">
                <a:solidFill>
                  <a:srgbClr val="fffcc7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iculum is based on essential ideas &amp; skills related to the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iculum is relevant, coherent, &amp;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expectations for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, activities, products focus on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 interests &amp; engages l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 &amp; products require higher level thinking &amp; complex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understand criteria for high quality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room environment is respectful of each student &amp; group as a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Resources for Promoting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 A. (1999)The differentiated classroom: Responding to the needs of all learners.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A. &amp; Allan,S.D. (2000) Leadership for differentiating schools and classrooms. 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A. (2001)  How to differentiate instruction in mixed-ability classrooms.  2nd ed.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ascd.org   for summaries of the books,study guides, and videos  by Toml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6:07:10Z</dcterms:created>
  <dc:creator>Gayle Y. Thieman</dc:creator>
  <dc:description/>
  <dc:language>en-US</dc:language>
  <cp:lastModifiedBy>Ben</cp:lastModifiedBy>
  <dcterms:modified xsi:type="dcterms:W3CDTF">2011-01-25T01:35:02Z</dcterms:modified>
  <cp:revision>8</cp:revision>
  <dc:subject/>
  <dc:title>DIFFERENTIATED INSTRUCTION</dc:title>
</cp:coreProperties>
</file>